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2.png" ContentType="image/png"/>
  <Override PartName="/ppt/media/image23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20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754A-8C6F-4ABE-B2B9-00533715C53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E526-5748-4913-881C-36C2BF075E7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3. Η έκθεση σε μίγματα οργανικών διαλυτών προκαλούν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67D0-45FE-4170-81C3-1E32256CDD3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α πλέον συνήθη κατιόντα είναι βασισμένα στα παράγωγα ιμιδαζολίου </a:t>
            </a:r>
            <a:r>
              <a:rPr b="0" i="1" lang="el-GR" sz="1200" spc="-1" strike="noStrike">
                <a:solidFill>
                  <a:srgbClr val="000000"/>
                </a:solidFill>
                <a:latin typeface="Arial"/>
              </a:rPr>
              <a:t>(imidazolium), πυριδινίου (pyridinium), πυρρολιδινίου (pyrrolidinium), αμμωνίου (ammonium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0" i="1" lang="el-GR" sz="1200" spc="-1" strike="noStrike">
                <a:solidFill>
                  <a:srgbClr val="000000"/>
                </a:solidFill>
                <a:latin typeface="Arial"/>
              </a:rPr>
              <a:t>φωσφωνίου (phosphonium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Text Box 15"/>
          <p:cNvSpPr/>
          <p:nvPr/>
        </p:nvSpPr>
        <p:spPr>
          <a:xfrm>
            <a:off x="900000" y="-27000"/>
            <a:ext cx="784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6600"/>
                </a:solidFill>
                <a:latin typeface="Comic Sans MS"/>
              </a:rPr>
              <a:t>Οι Ιονικοί Διαλύτε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">
            <a:hlinkClick r:id="" action="ppaction://hlinkshowjump?jump=previousslide"/>
          </p:cNvPr>
          <p:cNvSpPr/>
          <p:nvPr/>
        </p:nvSpPr>
        <p:spPr>
          <a:xfrm>
            <a:off x="774072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0" h="21600">
                <a:moveTo>
                  <a:pt x="10274" y="10800"/>
                </a:moveTo>
                <a:lnTo>
                  <a:pt x="24286" y="3794"/>
                </a:lnTo>
                <a:lnTo>
                  <a:pt x="24286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AutoShape 11">
            <a:hlinkClick r:id="" action="ppaction://hlinkshowjump?jump=firstslide"/>
          </p:cNvPr>
          <p:cNvSpPr/>
          <p:nvPr/>
        </p:nvSpPr>
        <p:spPr>
          <a:xfrm>
            <a:off x="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3859" y="3837"/>
                </a:moveTo>
                <a:lnTo>
                  <a:pt x="16435" y="6448"/>
                </a:lnTo>
                <a:lnTo>
                  <a:pt x="16435" y="4707"/>
                </a:lnTo>
                <a:lnTo>
                  <a:pt x="18211" y="4707"/>
                </a:lnTo>
                <a:lnTo>
                  <a:pt x="18211" y="8224"/>
                </a:lnTo>
                <a:lnTo>
                  <a:pt x="20822" y="10800"/>
                </a:lnTo>
                <a:lnTo>
                  <a:pt x="19168" y="10800"/>
                </a:lnTo>
                <a:lnTo>
                  <a:pt x="19168" y="17989"/>
                </a:lnTo>
                <a:lnTo>
                  <a:pt x="8550" y="17989"/>
                </a:lnTo>
                <a:lnTo>
                  <a:pt x="8550" y="10800"/>
                </a:lnTo>
                <a:lnTo>
                  <a:pt x="6896" y="10800"/>
                </a:lnTo>
                <a:close/>
              </a:path>
              <a:path fill="darkenLess" w="27718" h="21600">
                <a:moveTo>
                  <a:pt x="16435" y="6448"/>
                </a:moveTo>
                <a:lnTo>
                  <a:pt x="16435" y="4707"/>
                </a:lnTo>
                <a:lnTo>
                  <a:pt x="18211" y="4707"/>
                </a:lnTo>
                <a:lnTo>
                  <a:pt x="18211" y="8224"/>
                </a:lnTo>
                <a:close/>
              </a:path>
              <a:path fill="darkenLess" w="27718" h="21600">
                <a:moveTo>
                  <a:pt x="12936" y="14299"/>
                </a:moveTo>
                <a:lnTo>
                  <a:pt x="14782" y="14299"/>
                </a:lnTo>
                <a:lnTo>
                  <a:pt x="14782" y="17989"/>
                </a:lnTo>
                <a:lnTo>
                  <a:pt x="19168" y="17989"/>
                </a:lnTo>
                <a:lnTo>
                  <a:pt x="19168" y="10800"/>
                </a:lnTo>
                <a:lnTo>
                  <a:pt x="8550" y="10800"/>
                </a:lnTo>
                <a:lnTo>
                  <a:pt x="8550" y="17989"/>
                </a:lnTo>
                <a:lnTo>
                  <a:pt x="12936" y="1798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12" descr="i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ion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ion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C:%5CDocuments%20and%20Settings%5Cuser%5CLocal%20Settings%5CTemp%5C1.MSWMM" TargetMode="External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6"/>
          <p:cNvSpPr/>
          <p:nvPr/>
        </p:nvSpPr>
        <p:spPr>
          <a:xfrm>
            <a:off x="1332000" y="189000"/>
            <a:ext cx="6799320" cy="18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ΑΡΙΣΤΟΤΕΛΕΙΟ ΠΑΝΕΠΙΣΤΗΜΙΟ ΘΕΣΣΑΛΟΝΙΚΗ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ΜΗΜΑ ΧΗΜΕΙΑ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Διαπανεπιστημιακό Διατμηματικό Πρόγραμμα Μεταπτυχιακών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Σπουδών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ης Διδακτικής της Χημείας και των Νέων Εκπαιδευτικών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εχνολογιών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7" descr="apth_logo"/>
          <p:cNvPicPr/>
          <p:nvPr/>
        </p:nvPicPr>
        <p:blipFill>
          <a:blip r:embed="rId1"/>
          <a:stretch/>
        </p:blipFill>
        <p:spPr>
          <a:xfrm>
            <a:off x="250920" y="404640"/>
            <a:ext cx="1152360" cy="11415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8"/>
          <p:cNvSpPr/>
          <p:nvPr/>
        </p:nvSpPr>
        <p:spPr>
          <a:xfrm>
            <a:off x="2340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3132000" y="2637000"/>
            <a:ext cx="61930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omic Sans MS"/>
              </a:rPr>
              <a:t>Ιονικοί Διαλύτες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187280" y="4437000"/>
            <a:ext cx="71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Γάκη Βάσω - Μπουντούρη Αικατερίνη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187280" y="5013360"/>
            <a:ext cx="712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πιβλέπουσα Καθηγήτρια: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.Χατζηαντωνίου-Μαρούλη Κωνσταντίνα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3635280" y="6165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εσσαλονίκη 2010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250920" y="162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ΔιΧηΝΕΤ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7"/>
          <p:cNvSpPr/>
          <p:nvPr/>
        </p:nvSpPr>
        <p:spPr>
          <a:xfrm>
            <a:off x="1042920" y="620640"/>
            <a:ext cx="72723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ύνθεση των Ιονικών Υγρ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95280" y="1341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1. Οξεοβασικές αντιδράσεις εξουδετέρωση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8" name="Object 9"/>
          <p:cNvGraphicFramePr/>
          <p:nvPr/>
        </p:nvGraphicFramePr>
        <p:xfrm>
          <a:off x="1042920" y="1793880"/>
          <a:ext cx="655344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93880"/>
                    <a:ext cx="65534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 Box 14"/>
          <p:cNvSpPr/>
          <p:nvPr/>
        </p:nvSpPr>
        <p:spPr>
          <a:xfrm>
            <a:off x="324000" y="306864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2. Με αντικατάσταση ενός αλογονούχου άλατος με ένα μέταλλο της ομάδας 1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, Ag, Au)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ή με ένα αμμωνιακό άλας του επιθυμητού ανιόντο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1" name="Object 15"/>
          <p:cNvGraphicFramePr/>
          <p:nvPr/>
        </p:nvGraphicFramePr>
        <p:xfrm>
          <a:off x="1230480" y="4214880"/>
          <a:ext cx="636588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0480" y="4214880"/>
                    <a:ext cx="636588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3" name="Picture 18" descr="specialty"/>
          <p:cNvPicPr/>
          <p:nvPr/>
        </p:nvPicPr>
        <p:blipFill>
          <a:blip r:embed="rId5"/>
          <a:stretch/>
        </p:blipFill>
        <p:spPr>
          <a:xfrm>
            <a:off x="0" y="0"/>
            <a:ext cx="2124000" cy="11286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20"/>
          <p:cNvSpPr/>
          <p:nvPr/>
        </p:nvSpPr>
        <p:spPr>
          <a:xfrm>
            <a:off x="826920" y="4508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755640" y="602136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i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39528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π.χ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735120" y="244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187280" y="404640"/>
            <a:ext cx="67694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Ιδιότητες των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16000" y="981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εριοχή θερμοκρασιών υγρής κατάσταση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3816360" cy="238932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14"/>
          <p:cNvGrpSpPr/>
          <p:nvPr/>
        </p:nvGrpSpPr>
        <p:grpSpPr>
          <a:xfrm>
            <a:off x="5796000" y="1628640"/>
            <a:ext cx="2719440" cy="1899000"/>
            <a:chOff x="5796000" y="1628640"/>
            <a:chExt cx="2719440" cy="1899000"/>
          </a:xfrm>
        </p:grpSpPr>
        <p:sp>
          <p:nvSpPr>
            <p:cNvPr id="272" name="AutoShape 11"/>
            <p:cNvSpPr/>
            <p:nvPr/>
          </p:nvSpPr>
          <p:spPr>
            <a:xfrm>
              <a:off x="5796000" y="1628640"/>
              <a:ext cx="2719440" cy="1871640"/>
            </a:xfrm>
            <a:prstGeom prst="leftArrow">
              <a:avLst>
                <a:gd name="adj1" fmla="val 50000"/>
                <a:gd name="adj2" fmla="val 3632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Text Box 10"/>
            <p:cNvSpPr/>
            <p:nvPr/>
          </p:nvSpPr>
          <p:spPr>
            <a:xfrm>
              <a:off x="6372360" y="2060640"/>
              <a:ext cx="213192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Comic Sans MS"/>
                </a:rPr>
                <a:t>Εξάρτηση σημείου τήξεως από το μήκος των αλκυλ-ομάδων.</a:t>
              </a:r>
              <a:r>
                <a:rPr b="1" i="1" lang="el-GR" sz="1200" spc="-1" strike="noStrike">
                  <a:solidFill>
                    <a:srgbClr val="000000"/>
                  </a:solidFill>
                  <a:latin typeface="Comic Sans MS"/>
                </a:rPr>
                <a:t>αλυσίδας στα 1-άλκυλ-3-μεθυλιμιδαζολικά άλατα</a:t>
              </a:r>
              <a:endParaRPr b="1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4" name="Text Box 12"/>
          <p:cNvSpPr/>
          <p:nvPr/>
        </p:nvSpPr>
        <p:spPr>
          <a:xfrm>
            <a:off x="1258920" y="4005360"/>
            <a:ext cx="6913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Παράγοντες που επηρεάζουν το σ.τ. των ιονικών υγρών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ο φορτίο, το μέγεθος, η κατανομή του φορτίου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Όσο αυξάνεται το μέγεθος των ιόντων, το σημείο τήξης ελαττώνεται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αύξηση της συμμετρίας στα ιόντα αυξάνει τα σημεία τήξης. Η συμμετρία του κατιόντος καθορίζεται συνήθως από το μήκος των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αλκυλ-ομάδω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971640" y="476280"/>
            <a:ext cx="676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Ιδιότητες των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116000" y="119700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2. Ιξώδε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042920" y="1844640"/>
            <a:ext cx="705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εγαλύτερο ιξώδες από τους συνηθισμένους οργανικούς διαλύτες (Κυμαίνεται από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10 cP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ως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500 cP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ξαρτάται από τη δομή του κατιόντος, ενώ η δομή του ανιόντος δεν επηρεάζει το ιξώδε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1116000" y="3933720"/>
            <a:ext cx="7056360" cy="17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3. Πυκνότητα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πυκνότητα των ιοντικών υγρών ποικίλλει μεταξύ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1,1 g/cm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αι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2.4 g/cm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Όσο υψηλότερη είναι η μοριακή μάζα του ανιόντος, τόσο υψηλότερη είναι η πυκνότητα του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187280" y="476280"/>
            <a:ext cx="67694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Ιδιότητες των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826920" y="1197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5. Επιφανειακή Τάση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826920" y="1773360"/>
            <a:ext cx="6840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ι τιμές επιφανειακής τάσης υγρού / αέρα των ιοντικών υγρών εμφανίζονται υψηλότερες απ' ότι στους συμβατικούς διαλύτες (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ξάνιο: 18 dyn/cm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), αλλά χαμηλότερες του νερού (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73 dyn/cm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αύξηση του μήκους της αλυσίδας οδηγεί σε χαμηλότερες τιμές επιφανειακής τάσεω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26920" y="3645000"/>
            <a:ext cx="72010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6. Διαλυτότητα και Διάλυση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οικίλει από την πλήρη αναμιξιμότητα μέχρι την απόλυτη αδιαλυτότητα και εξαρτάται από το ανιό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3" name="Group 8"/>
          <p:cNvGrpSpPr/>
          <p:nvPr/>
        </p:nvGrpSpPr>
        <p:grpSpPr>
          <a:xfrm>
            <a:off x="1763640" y="4724280"/>
            <a:ext cx="5486040" cy="1919160"/>
            <a:chOff x="1763640" y="4724280"/>
            <a:chExt cx="5486040" cy="1919160"/>
          </a:xfrm>
        </p:grpSpPr>
        <p:grpSp>
          <p:nvGrpSpPr>
            <p:cNvPr id="284" name="Group 9"/>
            <p:cNvGrpSpPr/>
            <p:nvPr/>
          </p:nvGrpSpPr>
          <p:grpSpPr>
            <a:xfrm>
              <a:off x="4516920" y="4724280"/>
              <a:ext cx="2732760" cy="1892160"/>
              <a:chOff x="4516920" y="4724280"/>
              <a:chExt cx="2732760" cy="1892160"/>
            </a:xfrm>
          </p:grpSpPr>
          <p:pic>
            <p:nvPicPr>
              <p:cNvPr id="285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9000" y="4724280"/>
                <a:ext cx="2154960" cy="144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Text Box 11"/>
              <p:cNvSpPr/>
              <p:nvPr/>
            </p:nvSpPr>
            <p:spPr>
              <a:xfrm>
                <a:off x="4516920" y="6308640"/>
                <a:ext cx="27327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100" spc="-1" strike="noStrike">
                    <a:solidFill>
                      <a:srgbClr val="000000"/>
                    </a:solidFill>
                    <a:latin typeface="Times New Roman"/>
                  </a:rPr>
                  <a:t>Ιονικό άλας.</a:t>
                </a:r>
                <a:r>
                  <a:rPr b="0" lang="el-GR" sz="1100" spc="-1" strike="noStrike">
                    <a:solidFill>
                      <a:srgbClr val="000000"/>
                    </a:solidFill>
                    <a:latin typeface="Times New Roman"/>
                  </a:rPr>
                  <a:t> Πλήρως αδιάλυτο στο νερό </a:t>
                </a:r>
                <a:endParaRPr b="1" lang="en-US" sz="11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7" name="Group 12"/>
            <p:cNvGrpSpPr/>
            <p:nvPr/>
          </p:nvGrpSpPr>
          <p:grpSpPr>
            <a:xfrm>
              <a:off x="1763640" y="4768200"/>
              <a:ext cx="2491920" cy="1875240"/>
              <a:chOff x="1763640" y="4768200"/>
              <a:chExt cx="2491920" cy="1875240"/>
            </a:xfrm>
          </p:grpSpPr>
          <p:pic>
            <p:nvPicPr>
              <p:cNvPr id="288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3560" y="4768200"/>
                <a:ext cx="1835640" cy="14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Text Box 14"/>
              <p:cNvSpPr/>
              <p:nvPr/>
            </p:nvSpPr>
            <p:spPr>
              <a:xfrm>
                <a:off x="1763640" y="6352560"/>
                <a:ext cx="2491920" cy="29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100" spc="-1" strike="noStrike">
                    <a:solidFill>
                      <a:srgbClr val="000000"/>
                    </a:solidFill>
                    <a:latin typeface="Times New Roman"/>
                  </a:rPr>
                  <a:t>Ιονικό άλας.</a:t>
                </a:r>
                <a:r>
                  <a:rPr b="0" lang="el-GR" sz="1100" spc="-1" strike="noStrike">
                    <a:solidFill>
                      <a:srgbClr val="000000"/>
                    </a:solidFill>
                    <a:latin typeface="Times New Roman"/>
                  </a:rPr>
                  <a:t> Πλήρως διαλυτό στο νερό </a:t>
                </a:r>
                <a:endParaRPr b="1" lang="en-US" sz="11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476360" y="476280"/>
            <a:ext cx="676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Ιδιότητες των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042920" y="907920"/>
            <a:ext cx="6985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6. Τάση ατμών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τάση ατμών των ιονικών υγρών είναι αμελητέα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042920" y="1916280"/>
            <a:ext cx="734544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7. Ηλεκτρική αγωγιμότητα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α ιονικά υγρά σε θερμοκρασίες δωματίου, εμφανίζουν ηλεκτρική αγωγιμότητα, η οποία αυξάνει σημαντικά σε υψηλές θερμοκρασίε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υξάνοντας το μέγεθος των κατιόντων προκαλείται μικρότερη αγωγιμότητα, που οφείλεται πιθανότατα στη χαμηλότερη κινητικότητα των μεγαλύτερων κατιόντω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042920" y="4437000"/>
            <a:ext cx="698508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8. Ηλεκτροχημικό δυναμικό παράθυρο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Εύρος τιμών δυναμικού στο οποίο δεν γίνεται ούτε οξείδωση, ούτε αναγωγή του ιονικού υγρού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αθορίζεται από τους τύπους των ανιόντων και κατιόντω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πορεί να είναι πάνω από 4.5 V, ως προς 1.2 V που ισχύει για τους υδατικούς ηλεκτρολύτε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1474920" y="476280"/>
            <a:ext cx="676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Ιδιότητες των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971640" y="1268280"/>
            <a:ext cx="756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9. Χρώμα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Τα ιονικά υγρά είναι άχρωμα, αλλά λόγω προσμίξεων μπορούν να εμφανίζονται υποκίτρινα ή ελαφρώς χρωματισμένα λόγω των προϊόντων οξείδωσης που δημιουργούνται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898560" y="2924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Εξαρτάται από το είδος του κατιόντος και τη διάρκεια της σύνθεση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Picture 8" descr="ionic_fluid"/>
          <p:cNvPicPr/>
          <p:nvPr/>
        </p:nvPicPr>
        <p:blipFill>
          <a:blip r:embed="rId1"/>
          <a:stretch/>
        </p:blipFill>
        <p:spPr>
          <a:xfrm>
            <a:off x="2413080" y="3716280"/>
            <a:ext cx="38876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1547640" y="476280"/>
            <a:ext cx="67694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Ιδιότητες των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187280" y="1557360"/>
            <a:ext cx="7417080" cy="17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10. Η σταθερότητα των ιονικών διαλυτών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μφανίζουν υψηλή σταθερότητα σε θερμοκρασίες άνω των 20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Η θερμοκρασία αποσύνθεσης εξαρτάται από το πυρηνόφιλο ανιό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258920" y="3424320"/>
            <a:ext cx="64087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11. Τοξικότητα ιονικών διαλυτών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Γίνονται συνεχείς προσπάθειες για να περιοριστεί όσο το δυνατόν η τοξικότητά του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"/>
          <p:cNvSpPr/>
          <p:nvPr/>
        </p:nvSpPr>
        <p:spPr>
          <a:xfrm>
            <a:off x="324000" y="692280"/>
            <a:ext cx="882000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αταλυτικές αντιδράσεις παρουσία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39640" y="1700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Στις καταλυτικές αντιδράσεις αντικαθιστώντας τους οργανικούς διαλύτες με ιονικά υγρά μια καταλυτική διεργασία γίνεται "</a:t>
            </a:r>
            <a:r>
              <a:rPr b="1" i="1" lang="el-GR" sz="2400" spc="-1" strike="noStrike">
                <a:solidFill>
                  <a:srgbClr val="006600"/>
                </a:solidFill>
                <a:latin typeface="Comic Sans MS"/>
              </a:rPr>
              <a:t>πράσινη</a:t>
            </a:r>
            <a:r>
              <a:rPr b="1" lang="el-GR" sz="2400" spc="-1" strike="noStrike">
                <a:solidFill>
                  <a:srgbClr val="006600"/>
                </a:solidFill>
                <a:latin typeface="Comic Sans MS"/>
              </a:rPr>
              <a:t>".</a:t>
            </a: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826920" y="3645000"/>
            <a:ext cx="756144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Χρησιμοποιούνται επιτυχώς σε τρείς κατηγορίες αντιδράσεων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1) Προσθήκη υδρογόνου και αντιδράσεις μετάθεση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2) Αντιδράσεις διάσπασης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3) Αντιδράσεις σύζευξης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ή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- ετεροάτομο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324000" y="620640"/>
            <a:ext cx="882000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αταλυτικές αντιδράσεις παρουσία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01800" y="3213000"/>
            <a:ext cx="48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2) Αντιδράσεις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διάσπασης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900000" y="3789360"/>
            <a:ext cx="71294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2.1 Καταλυτική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πυρόλυση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του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πολυαιθυλενίου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προς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αλκάνια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2.2 Σχάση κυκλικών και άκυκλων αιθέρω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2.3 Ασύμμετρη διάσπαση του δακτυλίου των εποξειδίων καταλυόμενη απ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r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len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577080" y="1484280"/>
            <a:ext cx="6885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ροσθήκη υδρογόνου και αντιδράσεις μετάθεση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1.1 Υδρογόνωση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1.2 Ισομερισμός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755640" y="1052640"/>
            <a:ext cx="799308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3. Αντιδράσεις σύζευξης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ή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-ετεροάτομο.</a:t>
            </a: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1 Αντιδράσεις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iedel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afts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2 Αντίδραση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els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der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3  Διμερισμός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4 Ολιγομερισμός και Πολυμερισμός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5 Αλκυλίωση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6 Αντιδράσεις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eck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zuki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7 Υδροφορμιλίωση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8 Πυρηνόφιλη Αντίδραση Υποκατάστασης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9 Ηλεκτριονιόφιλη Νίτρωση αρωματικών ενώσεων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10 Αντιδράσεις ελευθέρων ριζών που χρησιμοποιούν ως μέσο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l-GR" sz="1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OMg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11 Καρβονυλίωση των αρυλαλογονιδίων καταλυόμενη από Παλλάδιο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11 Αναγωγή αδεϋδών προς αλκοόλες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12 Σύνθεση κυκλοτριβερατρυλένιο (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TV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) και τρι-(-ο-αλλυλ)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TV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13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υκλοπροσθήκη διοξειδίου του άνθρακα σε οξείδιο του προπυλενίου   με ιονικά υγρά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omic Sans MS"/>
              </a:rPr>
              <a:t>3.14 Αντίδραση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itting</a:t>
            </a:r>
            <a:r>
              <a:rPr b="1" lang="el-G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324000" y="476280"/>
            <a:ext cx="882000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Καταλυτικές αντιδράσεις παρουσία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900000" y="836640"/>
            <a:ext cx="792000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κοπός - Στόχο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116000" y="1700280"/>
            <a:ext cx="8640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Σκοπός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αυτής της εργασίας απετέλεσε η ανάγκη συγκέντρωσης πληροφοριών για αυτή τη καινούργια και σημαντική κατηγορία πράσινων διαλυτών, των ιονικών διαλυτών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omic Sans MS"/>
              </a:rPr>
              <a:t>Στόχος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μας ήταν να δώσουμε με εύληπτο και σαφή τρόπο αυτές τις πληροφορίες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0" y="7650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Αντιδράσεις Βιοκατάλυσης παρουσία Ιονικών Υγρών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971640" y="1844640"/>
            <a:ext cx="755964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Μετατροπή του 1,3-δικυανοβενζόλιο σε 3-κυανοβενζαμίδιο και  κυανοβενζοικό οξύ σε ιονικό υγρό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Ενζυμική σύνθεση Ζ-ασπαρτάμη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Κινητική διάσπαση της 1-φαίνυλοαιθανόλης καταλυόμενη απο λιπάση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4.  Αντιδράσεις αλκοόλυσης, αμμωνιλίωσης και περυδρόλυσης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καταλυόμενες  από τη λιπάση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dida Antartica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5. Εστεροποίηση σε ιονικά υγρά καταλυόμενη από λιπάσες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826920" y="549360"/>
            <a:ext cx="74883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Πλεονεκτήματα των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4360" y="142884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αρουσιάζουν υψηλή θερμική, μηχανική και ηλεκτροχημική σταθερότητα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Είναι υγρά σε θερμοκρασίες δωματίου καθώς και σε θερμοκρασίες κάτω από τους 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i="1" lang="el-GR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αρέχουν τη δυνατότητα διαχωρισμού προιόντων με απόσταξη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Δεν απαιτούνται ειδικές συσκευές και μεθοδολογίες κατά τη σύνθεσή του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αρασκευάζονται γρηγορότερα από ότι οι συμβατικοί διαλύτε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Εμφανίζουν αμελητέα τάση ατμών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826920" y="549360"/>
            <a:ext cx="74883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Πλεονεκτήματα των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755640" y="1341360"/>
            <a:ext cx="813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Η ηλεκτρική αγωγιμότητα, οι εξαιρετικές ιδιότητες διάλυσης και το χαμηλό ιξώδες εξαρτώνται από τα κατιόντα και τα ανιόντα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Διαλύουν οργανομεταλλικές ενώσει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Αναμιγνύονται με οργανικούς διαλύτες χαμηλής πολικότητας (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εξάνιο, τολουόλιο,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με διαλύτες υψηλής πολικότητας (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Νερό, Μεθανόλη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Για την κατάλληλη επιλογή κατιόντος – ανιόντων μπορούμε να συνθέσουμε ιονικούς διαλύτες με τις επιθυμητές διαλυτικές ιδιότητε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Οι καταλυτικές αντιδράσεις παρουσία ιονικών υγρών έχουν υψηλότερες αποδόσει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1042920" y="765000"/>
            <a:ext cx="74883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Μειονεκτήματα των ιονικών διαλυτών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39640" y="1557360"/>
            <a:ext cx="78501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πί του παρόντος έχουν υψηλό κόστο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Δεν υπάρχουν αρκετά δεδομένα υγιεινής και ασφαλείας για την υγεία και το περιβάλλο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Δεν έχουμε καλή πρόβλεψη για την σταθερότητα τους, λόγω του μικρού χρονικού διαστήματος χρήσης των ιονικών υγρώ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Δεν είναι κατάλληλα για κάθε τύπο αντίδραση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Σε λίγες περιπτώσεις εμφανίζονται δυσκολίες ανάκτησης του προϊόντος από το ιοντικό υγρό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539640" y="33336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826920" y="692280"/>
            <a:ext cx="75614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Εφαρμογέ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39640" y="1736640"/>
            <a:ext cx="83534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Διαχωριστικές τεχνικές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(εκχύλιση, καθαρισμός αερίων, απόσταξη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Επιστήμη των υλικών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σύνθεση πολυμερών, παρασκευή νανοσωματιδίων, λιπαντικά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Ηλεκτροχημικές συσκευές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(Υγρά μπαταριών λιθίου, ηλεκτροαπόθεση μετάλλων και ημιαγωγών 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Εφαρμογές σε χημικές διεργασίες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αποσύνθεση όξινων υδροχλωρικών αποβλήτων, παρασκευή μελανιών εκτύπωσης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Άλλες χρήσεις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διαλύτες δυσδιάλυτων υλικών όπως πλαστικά, κυτταρίνη, κάρβουνο, αρκετά μέταλλα και ορυκτά 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539640" y="404640"/>
            <a:ext cx="8425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Βιομηχανικές εφαρμογές των ιονικών διαλυτών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Picture 7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408720" cy="4407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"/>
          <p:cNvSpPr/>
          <p:nvPr/>
        </p:nvSpPr>
        <p:spPr>
          <a:xfrm>
            <a:off x="1547640" y="580536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φαρμογές ιονικών διαλυτών για ένα καθαρότερο κόσμο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7"/>
          <p:cNvSpPr/>
          <p:nvPr/>
        </p:nvSpPr>
        <p:spPr>
          <a:xfrm>
            <a:off x="539640" y="765000"/>
            <a:ext cx="82090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Η εμπορική χρήση των ιονικών διαλυτών οφείλεται στα χαρακτηριστικά καταλληλότητας που εμφανίζουν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λεγχόμενοι φυσικοί παράμετροι (ιξώδες, σημείο τήξεως κ.α.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Θερμική σταθερότητα (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&lt;150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C, &gt;150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C, &gt;300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Καλή απόδοση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Βιοδιαθεσιμότητα και μη τοξικότητα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ροσιτή τιμή. (Οι τιμές των ιονικών υγρών σε βιομηχανική κλίμακα εξαρτώνται κυρίως από την δομή των κατιόντων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11280" y="3860640"/>
            <a:ext cx="7777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νακύκλωση – Επανάχρηση στους ιονικούς διαλύτε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Η ανακύκλωση είναι μια εύκολη διαδικασία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 διαλύτης αλλά και ο καταλύτης θα μπορούσαν να ανακυκλωθούν έως και πέντε φορές χωρίς καθαρισμό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Το ιονικό υγρό επανέρχεται στην αρχική κατάσταση με πλύση με νερό και ξήρανση υπό κενό στους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πί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έντε ώρε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5"/>
          <p:cNvSpPr/>
          <p:nvPr/>
        </p:nvSpPr>
        <p:spPr>
          <a:xfrm>
            <a:off x="826920" y="1125360"/>
            <a:ext cx="777744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ποσύνθεση ιονικών υγρών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ρισμένα ιονικά υγρά αποσυντίθεται στους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και άλλα είναι σταθερά έως τους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400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900000" y="2781360"/>
            <a:ext cx="748980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ο κόστος των ιονικών διαλυτών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ι τιμές των ιονικών υγρών εξαρτώνται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πό τις αμοιβές του προσωπικού, τα γενικά έξοδα, τη τιμή των πρώτων υλών, τις μεταβλητές κόστους αλλά και τη πολυπλοκότητα των διαδικασιών παραγωγή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Οι τιμές των ιονικών υγρών θα συνεχίσουν να μειώνονται στο μέλλον και προβλέπεται ότι θα κοστίζουν περίπου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25-50 ευρώ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ανά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kg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σε κλίμακα τόνου 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lk chemicals)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HMIWk2iI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979640" y="2133720"/>
            <a:ext cx="5545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Vide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1258920" y="2276640"/>
            <a:ext cx="7200720" cy="163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Σας ευχαριστούμε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για την προσοχή σας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8"/>
          <p:cNvSpPr/>
          <p:nvPr/>
        </p:nvSpPr>
        <p:spPr>
          <a:xfrm>
            <a:off x="1187280" y="836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68360" y="974880"/>
            <a:ext cx="820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Τα ιονικά υγρά είναι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υγρά άλατα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σε μία περιοχή θερμοκρασιών από –85 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C έως 223 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C, ενώ τα συνηθισμένα άλατα είναι υγρά μόνο στη θερμοκρασία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τήξεως τους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, που είναι αρκετά υψηλή (πχ, NaCl σ.τ. 801 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C και LiCl σ.τ. 604 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Στις περισσότερες εφαρμογές χρησιμοποιούνται ιονικά υγρά στην περιοχή θερμοκρασιών -20 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C έως 100 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C, ενώ μεγαλύτερο ενδιαφέρον παρουσιάζουν τα ιονικά υγρά που είναι υγρά κοντά στη θερμοκρασία περιβάλλοντος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Μία εξαιρετική ιδιότητα τους είναι ότι τα ιονικά υγρά έχουν αμελητέα τάση ατμών, οπότε δεν μπορούν να εξατμιστού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εύκολα και να οδηγήσουν σε εκπομπές συστατικών στο περιβάλλον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Είναι ανακυκλώσιμα και επαναχρησιμοποιήσιμα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1547640" y="189000"/>
            <a:ext cx="684072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Οι παραδοσιακοί οργανικοί διαλύτε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84360" y="1197000"/>
            <a:ext cx="799128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Κατηγορίες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Αλειφατικές ενώσεις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αλκοόλες, κετόνες, εστέρες, αιθέρες και αλδεΰδες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Αρωματικές ενώσεις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βενζόλιο, ξυλόλιο και πυριδίνη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4360" y="2708280"/>
            <a:ext cx="784836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Χαρακτηριστικά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αρουσιάζουν αυξημένη πτητικότητα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Έχουν χαμηλό μοριακό βάρο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Βρίσκονται σε υγρή μορφή σε θερμοκρασία δωματίου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55640" y="4508640"/>
            <a:ext cx="74883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Προβλήματα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Ρυπαίνουν το έδαφος, τον αέρα και το νερό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ίναι εύφλεκτοι με αποτέλεσμα τη πρόκληση χημικών ατυχημάτω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Εμφάνιση πολλών μορφών καρκίνου και προβλημάτων του ΚΝ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124000" y="836640"/>
          <a:ext cx="4859280" cy="5973840"/>
        </p:xfrm>
        <a:graphic>
          <a:graphicData uri="http://schemas.openxmlformats.org/drawingml/2006/table">
            <a:tbl>
              <a:tblPr/>
              <a:tblGrid>
                <a:gridCol w="1548000"/>
                <a:gridCol w="33112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Ένωσ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ιομηχανικές Χρήσει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κετόνη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γρό καθαρισμού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κρυλαμίδι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όλλες, επεξεργασία αποβλήτων, επεξεργασία μεταλλεύματο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ενζόλι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ύσιμα, απορρυπαντικά, αφαίρεση των χρωμάτων, πρώτη ύλη για Παρασκευή άλλων διαλυτώ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θειάνθρακα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ισκόζη, εκρηκτικές ύλες, χρώματα, συντηρητικά, κλωστοϋφαντουργικά προϊόντα, τσιμέντο, καουτσούκ, βερνίκι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ιθυλενοξείδιο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έσο αποστείρωσης (π.χ. νοσοκομειακών χειρουργικών εργαλείων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εθυλομερκαπτάνη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σμητικό σε φυσικό αέριο και καύσιμ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χλωρομεθάνι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αλύτης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ψυκτικό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ροωθητικ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ργανοχλωριούχ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ντομοκτόν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ργανοφωσφορικ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ντομοκτόν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ετραχλωροαιθυλένι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τεγνό καθάρισμα, απολιπαντικό, κλωστοϋφαντουργί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ολουόλι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αφές, καθαρισμός, λάκες, χρώματα και διαλυτικά χρωμάτω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ριχλωροαιθυλένι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αθαριστικός παράγοντας, συστατικό χρώμα, διαλύτες καουτσούκ, βερνίκι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ινυλοχλωρίδι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ιαλυτικό μέσο για ρητίνες πολυβινυλοχλωρίδιου, πλαστικά, καλύμματα δαπέδου, ταπετσαρίε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Ξυλόλι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αφές, μελάνες, κόλλες, τσιμέντ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280"/>
          <p:cNvSpPr/>
          <p:nvPr/>
        </p:nvSpPr>
        <p:spPr>
          <a:xfrm>
            <a:off x="2181240" y="40392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Ευρείας χρήσης Οργανικοί Διαλύτες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282"/>
          <p:cNvSpPr/>
          <p:nvPr/>
        </p:nvSpPr>
        <p:spPr>
          <a:xfrm>
            <a:off x="1476360" y="-42840"/>
            <a:ext cx="684072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Οι παραδοσιακοί οργανικοί διαλύτε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187280" y="692280"/>
            <a:ext cx="7417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Ιστορική Αναδρομή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116000" y="836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39640" y="1413000"/>
            <a:ext cx="5905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6600"/>
                </a:solidFill>
                <a:uFillTx/>
                <a:latin typeface="Comic Sans MS"/>
              </a:rPr>
              <a:t>1914:</a:t>
            </a: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Ο</a:t>
            </a: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Paul Walden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συνθέτει για πρώτη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φορ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το ιονικό υγρό νιτρικό αιθυλαμμώνιο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([EtNH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[NO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] ) με σημείο τήξης 12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379520" cy="17290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395280" y="2637000"/>
            <a:ext cx="56880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6600"/>
                </a:solidFill>
                <a:uFillTx/>
                <a:latin typeface="Comic Sans MS"/>
              </a:rPr>
              <a:t>1948: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Οι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Hurley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και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Wier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χρησιμοποιούν υγρά που βασίζονται στο N- αιθυλοπυρίδινο κατιόν, [NEtpy]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με σημείο τήξης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9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5848200" y="143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395280" y="3789360"/>
            <a:ext cx="59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6600"/>
                </a:solidFill>
                <a:uFillTx/>
                <a:latin typeface="Comic Sans MS"/>
              </a:rPr>
              <a:t>Αργότερα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Ο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Osteryoung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διερεύνησε το Ν-βουτυλοπυρίδινο κατιόν, [NBupy] με σημείο τήξης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και ο Hussey και οι συνεργάτες του ανακάλυψαν ότι το 1-αιθυλο-3-μεθυλοιμιδαζόλιο, [emim] 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με σημείο τήξης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l-GR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2"/>
          <a:stretch/>
        </p:blipFill>
        <p:spPr>
          <a:xfrm>
            <a:off x="7164360" y="3500280"/>
            <a:ext cx="1440000" cy="1511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3"/>
          <p:cNvSpPr/>
          <p:nvPr/>
        </p:nvSpPr>
        <p:spPr>
          <a:xfrm>
            <a:off x="395280" y="573408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Όπου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l-GR" sz="1800" spc="-1" strike="noStrike">
                <a:solidFill>
                  <a:srgbClr val="006600"/>
                </a:solidFill>
                <a:latin typeface="Comic Sans MS"/>
              </a:rPr>
              <a:t>[emim]</a:t>
            </a:r>
            <a:r>
              <a:rPr b="1" lang="el-GR" sz="1800" spc="-1" strike="noStrike" baseline="30000">
                <a:solidFill>
                  <a:srgbClr val="006600"/>
                </a:solidFill>
                <a:latin typeface="Comic Sans MS"/>
              </a:rPr>
              <a:t>+</a:t>
            </a:r>
            <a:r>
              <a:rPr b="1" lang="el-GR" sz="1800" spc="-1" strike="noStrike">
                <a:solidFill>
                  <a:srgbClr val="006600"/>
                </a:solidFill>
                <a:latin typeface="Comic Sans MS"/>
              </a:rPr>
              <a:t> = 1-αίθυλο-3-μεθυλιμιδαζολικό κατιόν</a:t>
            </a: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omic Sans MS"/>
              </a:rPr>
              <a:t>(1-ethyl-3-methylimidazolium cation)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14" descr="Untitled-1"/>
          <p:cNvPicPr/>
          <p:nvPr/>
        </p:nvPicPr>
        <p:blipFill>
          <a:blip r:embed="rId3"/>
          <a:stretch/>
        </p:blipFill>
        <p:spPr>
          <a:xfrm>
            <a:off x="7236000" y="5300640"/>
            <a:ext cx="14173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95280" y="1197000"/>
            <a:ext cx="61927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6600"/>
                </a:solidFill>
                <a:uFillTx/>
                <a:latin typeface="Comic Sans MS"/>
              </a:rPr>
              <a:t>1963: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Ο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ajor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r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.)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well A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στη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Force Academ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συνέθεσε μια νέα κατηγορία τηγμένων αλάτων γνωστή ως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χλωροαλουμίνα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 (χαμηλής θερμοκρασία τήξεως σε σύγκριση με τα ανόργανα εύτηκτα άλατα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7380360" y="981000"/>
            <a:ext cx="143964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7612200" y="969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87280" y="476280"/>
            <a:ext cx="7417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Ιστορική Αναδρομή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68360" y="263700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6600"/>
                </a:solidFill>
                <a:uFillTx/>
                <a:latin typeface="Comic Sans MS"/>
              </a:rPr>
              <a:t>1990: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Ο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Mike Zaworotko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συνθέτει άλατα με δι-άλκυλο ιμιδαζόλιο κατιόντα, αλλά με ανιόντα σταθερά στο νερό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7380360" y="4221000"/>
            <a:ext cx="1439640" cy="1511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95280" y="414972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6600"/>
                </a:solidFill>
                <a:uFillTx/>
                <a:latin typeface="Comic Sans MS"/>
              </a:rPr>
              <a:t>1992:</a:t>
            </a:r>
            <a:r>
              <a:rPr b="0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Οι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King, John Wilkes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συνθέτουν ιονικά υγρά με συγκεκριμένες ιδιότητες, όπως, συγκεκριμένη πυκνότητα, ιξώδες, τάση ατμών, θερμική σταθερότητα και διαλυτική ικανότητα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12" descr=""/>
          <p:cNvPicPr/>
          <p:nvPr/>
        </p:nvPicPr>
        <p:blipFill>
          <a:blip r:embed="rId3"/>
          <a:stretch/>
        </p:blipFill>
        <p:spPr>
          <a:xfrm>
            <a:off x="7380360" y="2637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3"/>
          <p:cNvSpPr/>
          <p:nvPr/>
        </p:nvSpPr>
        <p:spPr>
          <a:xfrm>
            <a:off x="395280" y="558972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6600"/>
                </a:solidFill>
                <a:uFillTx/>
                <a:latin typeface="Comic Sans MS"/>
              </a:rPr>
              <a:t>2003:</a:t>
            </a:r>
            <a:r>
              <a:rPr b="1" lang="el-GR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BASF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: Η πρώτη δημόσια αναγνωρισμένη βιομηχανία ιονικών υγρών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920160" y="404640"/>
            <a:ext cx="756288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Οι ιονικοί διαλύτες και η δομή του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39640" y="981000"/>
            <a:ext cx="8353440" cy="27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Αποτελούνται από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Ένα οργανικό κατιόν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l-GR" sz="1600" spc="-1" strike="noStrike">
                <a:solidFill>
                  <a:srgbClr val="000000"/>
                </a:solidFill>
                <a:latin typeface="Comic Sans MS"/>
              </a:rPr>
              <a:t>βασισμένα στα παράγωγα ιμιδαζολίου (imidazolium), πυριδινίου (pyridinium), πυρρολιδινίου (pyrrolidinium), αμμωνίου (ammonium) και φωσφωνίου (phosphonium)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Ένα μικρό ανόργανο ανιόν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Al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BF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PF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SbF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 ZnCl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CuCl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l-GR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7" descr="χωρίς τίτλο"/>
          <p:cNvPicPr/>
          <p:nvPr/>
        </p:nvPicPr>
        <p:blipFill>
          <a:blip r:embed="rId1"/>
          <a:stretch/>
        </p:blipFill>
        <p:spPr>
          <a:xfrm>
            <a:off x="1835280" y="2997360"/>
            <a:ext cx="4608360" cy="37972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4"/>
          <p:cNvGrpSpPr/>
          <p:nvPr/>
        </p:nvGrpSpPr>
        <p:grpSpPr>
          <a:xfrm>
            <a:off x="6659640" y="3141720"/>
            <a:ext cx="2160360" cy="2112840"/>
            <a:chOff x="6659640" y="3141720"/>
            <a:chExt cx="2160360" cy="2112840"/>
          </a:xfrm>
        </p:grpSpPr>
        <p:sp>
          <p:nvSpPr>
            <p:cNvPr id="239" name="AutoShape 11"/>
            <p:cNvSpPr/>
            <p:nvPr/>
          </p:nvSpPr>
          <p:spPr>
            <a:xfrm>
              <a:off x="6659640" y="3141720"/>
              <a:ext cx="2160360" cy="1800000"/>
            </a:xfrm>
            <a:prstGeom prst="leftArrow">
              <a:avLst>
                <a:gd name="adj1" fmla="val 50000"/>
                <a:gd name="adj2" fmla="val 3000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Text Box 13"/>
            <p:cNvSpPr/>
            <p:nvPr/>
          </p:nvSpPr>
          <p:spPr>
            <a:xfrm>
              <a:off x="7092720" y="3573360"/>
              <a:ext cx="172728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Comic Sans MS"/>
                </a:rPr>
                <a:t>Τα πλέον συνήθη κατιόντα ιονικών υγρών.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41" name="Picture 17" descr="120px-Hardware-accelerated-molecular-modeling"/>
          <p:cNvPicPr/>
          <p:nvPr/>
        </p:nvPicPr>
        <p:blipFill>
          <a:blip r:embed="rId2"/>
          <a:stretch/>
        </p:blipFill>
        <p:spPr>
          <a:xfrm>
            <a:off x="0" y="0"/>
            <a:ext cx="125892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1"/>
          <p:cNvPicPr/>
          <p:nvPr/>
        </p:nvPicPr>
        <p:blipFill>
          <a:blip r:embed="rId1"/>
          <a:stretch/>
        </p:blipFill>
        <p:spPr>
          <a:xfrm>
            <a:off x="1835280" y="1484280"/>
            <a:ext cx="4324320" cy="3219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9"/>
          <p:cNvSpPr/>
          <p:nvPr/>
        </p:nvSpPr>
        <p:spPr>
          <a:xfrm>
            <a:off x="2124000" y="5157720"/>
            <a:ext cx="21600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24000" y="5445000"/>
            <a:ext cx="216000" cy="182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4140360" y="544500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2124000" y="4797360"/>
            <a:ext cx="576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Ιονικό υγρό [Cn mim][PF</a:t>
            </a:r>
            <a:r>
              <a:rPr b="1" lang="el-GR" sz="1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]. 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= θερμοκρασία κρυστάλλωσης,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= σημείο τήξης ,      =κύκλος = αέρια κατάσταση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684360" y="620640"/>
            <a:ext cx="817236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Μεταβολή θερμοκρασίας – Μήκος αλκυλοαλυσίδα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1643040" y="594936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Όπου </a:t>
            </a: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[Cn mim]= 1 μέθυλοιμιδαζολικό κατιόν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6600"/>
                </a:solidFill>
                <a:latin typeface="Comic Sans MS"/>
              </a:rPr>
              <a:t>1-methylimidazolium cation</a:t>
            </a:r>
            <a:r>
              <a:rPr b="1" lang="el-GR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7885080" y="5516640"/>
          <a:ext cx="925560" cy="106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85080" y="5516640"/>
                    <a:ext cx="92556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AutoShape 24"/>
          <p:cNvSpPr/>
          <p:nvPr/>
        </p:nvSpPr>
        <p:spPr>
          <a:xfrm>
            <a:off x="6443640" y="1916280"/>
            <a:ext cx="2160720" cy="2592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6804000" y="2565360"/>
          <a:ext cx="1103400" cy="12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2565360"/>
                    <a:ext cx="11034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1"/>
          <p:cNvGraphicFramePr/>
          <p:nvPr/>
        </p:nvGraphicFramePr>
        <p:xfrm>
          <a:off x="7740720" y="2997360"/>
          <a:ext cx="647640" cy="37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40720" y="2997360"/>
                    <a:ext cx="64764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2:24:46Z</dcterms:created>
  <dc:creator>user</dc:creator>
  <dc:description/>
  <dc:language>en-US</dc:language>
  <cp:lastModifiedBy>Dimitris Giannakoudakis</cp:lastModifiedBy>
  <dcterms:modified xsi:type="dcterms:W3CDTF">2012-02-18T14:48:35Z</dcterms:modified>
  <cp:revision>35</cp:revision>
  <dc:subject/>
  <dc:title>Διαφάνεια 1</dc:title>
</cp:coreProperties>
</file>